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559-BA9C-4610-A542-D7759685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DAF-8EBF-4265-9F3A-A72142D9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448-DCA9-4A3C-9D47-2330E8F9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12E-941C-4E92-AAC9-006925D6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AD3-5532-42A1-B114-8993D4B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66C-EB8E-4CB1-A9A7-64EA3BE6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507-3CF0-4C03-8D2C-158F3AC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3B4-F5E7-49D9-BE84-7B0F2047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95E-200A-421F-9193-FC801F43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6D1-7C25-4C61-AD91-1D3B924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05F-3A78-4085-8FA5-5DD7BA1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4DC-B95A-4590-AF61-B3C2477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975-57EA-4528-A123-5F3D6932E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520" y="55440"/>
            <a:ext cx="899316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77760"/>
            <a:ext cx="79246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1292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40" y="17640"/>
            <a:ext cx="9107280" cy="68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ucy/laffitte</cp:lastModifiedBy>
  <dcterms:modified xsi:type="dcterms:W3CDTF">2011-04-25T16:53:14Z</dcterms:modified>
  <cp:revision>1</cp:revision>
  <dc:subject/>
  <dc:title>PowerPoint Presentation</dc:title>
</cp:coreProperties>
</file>